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0A7-1A96-4990-80F6-DB580676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603-D4AA-4D67-9153-081B453C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5D6-CFEC-4554-B524-B082EF4D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BC4-83D5-478A-A8C3-D8C22CD0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03E14-D951-467F-96EC-56D94AC7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2F4CE-E783-495B-A410-686F7783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17298-89E0-48F6-803B-60FE4169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388DF-233D-4796-ABD6-015E285F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9C3D7-38AC-4AFD-8527-E7094259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1B87E-9877-48A5-A293-D30A9A7E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B39F7-E334-40BF-9DAF-C65E693C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E0B-1F90-48A6-A973-71A801A3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E28B9-7726-4E7D-AABB-46B2A1C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D80E0-CA1E-4235-899E-62230AF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355E0-ED59-4555-8364-BC3B52F4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6C570-0316-45F0-8B6F-E2BC58C3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0282B-5EBE-4CD7-8A27-B1B1FFE2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2BF-E85D-4900-AFBD-653D0DB3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BBB-99A4-475C-9742-55D7E959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CC1-631A-4B59-B8B3-E0CA7DA2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160-34DD-476A-AF1F-164F9164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EDE-45A5-4138-81D4-E773F8CA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925-E32A-48E6-9AE4-8EFED143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946-CA6A-4104-96C7-A175040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A795-B4C0-4370-9151-2ED5C73AD89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F066-E78D-4758-B74D-A6B99A321D3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400" spc="-1" strike="noStrike">
                <a:solidFill>
                  <a:srgbClr val="e3e3ff"/>
                </a:solidFill>
                <a:latin typeface="Arial"/>
              </a:rPr>
              <a:t>Orígenes de la civilización del Perú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5" descr="http://www.peru.info/mensajeshtm/Imagenes/libro2.jpg"/>
          <p:cNvPicPr/>
          <p:nvPr/>
        </p:nvPicPr>
        <p:blipFill>
          <a:blip r:embed="rId1"/>
          <a:stretch/>
        </p:blipFill>
        <p:spPr>
          <a:xfrm>
            <a:off x="2857680" y="2054160"/>
            <a:ext cx="3786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285840"/>
          <a:ext cx="9144000" cy="6572160"/>
        </p:xfrm>
        <a:graphic>
          <a:graphicData uri="http://schemas.openxmlformats.org/drawingml/2006/table">
            <a:tbl>
              <a:tblPr/>
              <a:tblGrid>
                <a:gridCol w="2143080"/>
                <a:gridCol w="1555920"/>
                <a:gridCol w="5445000"/>
              </a:tblGrid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exposi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es cul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6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iércoles 11 </a:t>
                      </a:r>
                      <a:r>
                        <a:rPr b="0" lang="es-PE" sz="24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Jueves 12 </a:t>
                      </a:r>
                      <a:r>
                        <a:rPr b="0" lang="es-PE" sz="24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Lunes 16 </a:t>
                      </a:r>
                      <a:r>
                        <a:rPr b="0" lang="es-PE" sz="2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ardí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ancay, Chincha, Chachapoy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jamarca, Chancas, Señorío Cuzc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ñoríos aymaras, Lambayequ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artes 10 </a:t>
                      </a:r>
                      <a:r>
                        <a:rPr b="0" lang="es-PE" sz="2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pisnique, Recuay, Li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18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Lunes 9 </a:t>
                      </a:r>
                      <a:r>
                        <a:rPr b="0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(Rembran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kara, Salinar, Sechí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  <p:sp>
        <p:nvSpPr>
          <p:cNvPr id="125" name="SMARTPenAnnotation2"/>
          <p:cNvSpPr/>
          <p:nvPr/>
        </p:nvSpPr>
        <p:spPr>
          <a:xfrm>
            <a:off x="7653240" y="46782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8930" h="8930">
                <a:moveTo>
                  <a:pt x="8929" y="0"/>
                </a:moveTo>
                <a:lnTo>
                  <a:pt x="10" y="0"/>
                </a:lnTo>
                <a:lnTo>
                  <a:pt x="0" y="89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MARTPenAnnotation6"/>
          <p:cNvSpPr/>
          <p:nvPr/>
        </p:nvSpPr>
        <p:spPr>
          <a:xfrm>
            <a:off x="6153120" y="533088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8931" h="8931">
                <a:moveTo>
                  <a:pt x="0" y="0"/>
                </a:moveTo>
                <a:lnTo>
                  <a:pt x="8930" y="89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MARTPenAnnotation7"/>
          <p:cNvSpPr/>
          <p:nvPr/>
        </p:nvSpPr>
        <p:spPr>
          <a:xfrm>
            <a:off x="5330880" y="5035680"/>
            <a:ext cx="360" cy="9360"/>
          </a:xfrm>
          <a:custGeom>
            <a:avLst/>
            <a:gdLst>
              <a:gd name="textAreaLeft" fmla="*/ 0 w 360"/>
              <a:gd name="textAreaRight" fmla="*/ 720 w 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" h="8931">
                <a:moveTo>
                  <a:pt x="0" y="893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MARTPenAnnotation11"/>
          <p:cNvSpPr/>
          <p:nvPr/>
        </p:nvSpPr>
        <p:spPr>
          <a:xfrm>
            <a:off x="4830840" y="3652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47" h="8821">
                <a:moveTo>
                  <a:pt x="0" y="0"/>
                </a:moveTo>
                <a:lnTo>
                  <a:pt x="0" y="8820"/>
                </a:lnTo>
                <a:lnTo>
                  <a:pt x="0" y="4156"/>
                </a:lnTo>
                <a:lnTo>
                  <a:pt x="993" y="2771"/>
                </a:lnTo>
                <a:lnTo>
                  <a:pt x="2646" y="1847"/>
                </a:lnTo>
                <a:close/>
              </a:path>
            </a:pathLst>
          </a:custGeom>
          <a:solidFill>
            <a:srgbClr val="3399ff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15"/>
          <p:cNvSpPr/>
          <p:nvPr/>
        </p:nvSpPr>
        <p:spPr>
          <a:xfrm>
            <a:off x="4741920" y="6848640"/>
            <a:ext cx="19080" cy="360"/>
          </a:xfrm>
          <a:custGeom>
            <a:avLst/>
            <a:gdLst>
              <a:gd name="textAreaLeft" fmla="*/ 0 w 19080"/>
              <a:gd name="textAreaRight" fmla="*/ 19440 w 190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9341" h="1">
                <a:moveTo>
                  <a:pt x="17795" y="0"/>
                </a:moveTo>
                <a:lnTo>
                  <a:pt x="0" y="0"/>
                </a:lnTo>
                <a:lnTo>
                  <a:pt x="19340" y="0"/>
                </a:lnTo>
                <a:close/>
              </a:path>
            </a:pathLst>
          </a:custGeom>
          <a:solidFill>
            <a:srgbClr val="3399ff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214200"/>
          <a:ext cx="9144000" cy="6643800"/>
        </p:xfrm>
        <a:graphic>
          <a:graphicData uri="http://schemas.openxmlformats.org/drawingml/2006/table">
            <a:tbl>
              <a:tblPr/>
              <a:tblGrid>
                <a:gridCol w="2143080"/>
                <a:gridCol w="1555920"/>
                <a:gridCol w="544500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exposi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es cul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1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Viernes 1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iércoles 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Viernes 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ardí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achapoyas. Cajamarca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ñorío Cuzco. Señoríos ayma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ancas, Lambayequ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iércoles 11 </a:t>
                      </a:r>
                      <a:r>
                        <a:rPr b="0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(Da Vinc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rú, Recuay, Li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artes 10  </a:t>
                      </a:r>
                      <a:r>
                        <a:rPr b="0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(Da Vinc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kara, Salinar, Vicus</a:t>
                      </a:r>
                      <a:r>
                        <a:rPr b="0" lang="es-PE" sz="24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4:03:58Z</dcterms:created>
  <dc:creator>Familia Soto Muñante</dc:creator>
  <dc:description/>
  <dc:language>en-US</dc:language>
  <cp:lastModifiedBy>Computo</cp:lastModifiedBy>
  <dcterms:modified xsi:type="dcterms:W3CDTF">2009-11-10T20:45:25Z</dcterms:modified>
  <cp:revision>61</cp:revision>
  <dc:subject/>
  <dc:title>Diapositiva 1</dc:title>
</cp:coreProperties>
</file>